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5403-176C-4F25-AD0F-DF670C134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E5F0-B540-485B-96C1-983B2D47F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F492-BFEE-4AA3-845D-D654BCBD3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6352-87E4-47ED-BCF4-5139182E4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61ED-D387-4C8E-84E5-60C909F9B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2B2C-8A38-4393-83EC-22E139D5B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BCD9-7AC9-4E3B-A56D-9D226FA5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21A9-D4C2-443B-9ED7-C4A511E01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2D70-760A-4B2B-BCAE-FC2A0A4A7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4229-4034-4F7B-B074-4773001B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6C0C-3BEA-4A6A-BAAB-A0C55F00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1F02-AB57-4F8E-89DE-DB2048439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0241D-3F44-4C30-8670-C6C4C3F09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youtube.com/watch?v=zReFspAoODA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tion 5-3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viding Poly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d by: John M and Nick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62120" y="177120"/>
            <a:ext cx="76197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viding Polynom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ivide a polynomial by a monomial, divide each term of the polynomial by the monom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ivide a trinomial by a binomial, try to factor the trinomial. If you can, then cancel any common binomial factors in the divisor and the divid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re is no common binomial factor, or if the degree of the dividend is greater than 2, use long divi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dividing a polynomial by a binomial using long division, any terms missing in the dividend must be written explicitly, using a coefficient of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756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04920" y="54100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838080"/>
            <a:ext cx="3733920" cy="673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5120" y="1752480"/>
            <a:ext cx="3047760" cy="12891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52680" y="3276720"/>
            <a:ext cx="3657600" cy="1423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5715000" y="5257800"/>
            <a:ext cx="243828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362320" y="1905120"/>
            <a:ext cx="64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a little confused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53080" y="3200400"/>
            <a:ext cx="1941480" cy="2852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352680" y="48006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 -----------------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0T20:31:34Z</dcterms:created>
  <dc:creator>kelly munchel</dc:creator>
  <dc:description/>
  <dc:language>en-US</dc:language>
  <cp:lastModifiedBy>kelly munchel</cp:lastModifiedBy>
  <dcterms:modified xsi:type="dcterms:W3CDTF">2009-12-20T21:00:54Z</dcterms:modified>
  <cp:revision>4</cp:revision>
  <dc:subject/>
  <dc:title>Section 5-3  Dividing Polynomials</dc:title>
</cp:coreProperties>
</file>